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327-D34C-4A11-8D7C-4ECD194B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5FC-B914-4AB1-B764-53BD6DD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CBF-99F7-48E1-A7B8-395C594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C43-F7B8-4CCA-A4C7-9AFE40DA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2A80-1C10-4350-9574-6C91F746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9F73-0F37-4BE2-ABCF-49B4A8B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0BF80-312F-46FD-89C9-4E6E153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29E5-AA05-4ED0-A801-BE1350B5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00E9-E30B-40CC-9345-C59BC361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5CB68-AD29-46B1-92BA-93468D50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57B8F-94C9-42D7-860F-D15B4C2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F9E-EF04-494E-BB50-02841871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DD61-2345-4E51-A885-2353203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93F19-7661-4978-BC34-544F88C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FB66-1944-46F7-A1D0-9527817E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F3CDB-19FA-4FAB-BBBB-4396F0CA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5B5F-C815-4117-A960-1BFC036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18A-4730-4CA1-BD04-0CE7193A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68F-69A2-4664-B38A-3EFB98FF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D9F-3F87-4C3E-BF14-E986C7B3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3AD-42A2-4A75-A9F8-DEBA2C23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BE6-6A7C-40FC-BD7B-E08A50A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F7B-13C5-4473-9EAE-3DE35541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758-8366-476A-9758-39F72E3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0DF-039A-4DEA-A837-F283D2E10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334-CFBF-46E1-882D-CDA16B7EA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mystery of Anita’s sunken boa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 Halie, Cheyenne, and K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191120"/>
            <a:ext cx="6095880" cy="1066680"/>
          </a:xfrm>
          <a:custGeom>
            <a:avLst/>
            <a:gdLst>
              <a:gd name="textAreaLeft" fmla="*/ 0 w 6095880"/>
              <a:gd name="textAreaRight" fmla="*/ 6096240 w 60958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343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4419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used the clay boats to test the hypothesis of why the boats either sank or float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the canoe boat and it s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19520" y="4114800"/>
            <a:ext cx="6858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724280"/>
            <a:ext cx="198108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We discovered that boats sink when the walls are really  thick and don’t have a curved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5486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boat sank because of its sh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486400"/>
            <a:ext cx="17524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240" y="4495320"/>
            <a:ext cx="30492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oat floated because the walls were tall, thin, and the inside was curv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362320"/>
            <a:ext cx="164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Halie’s experiment to see how much water was displaced by Cheyenne’s bo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562720" y="3580920"/>
            <a:ext cx="1371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64240" y="2157480"/>
            <a:ext cx="2135160" cy="2822400"/>
          </a:xfrm>
          <a:custGeom>
            <a:avLst/>
            <a:gdLst/>
            <a:ahLst/>
            <a:rect l="l" t="t" r="r" b="b"/>
            <a:pathLst>
              <a:path w="1345" h="1778">
                <a:moveTo>
                  <a:pt x="109" y="250"/>
                </a:moveTo>
                <a:cubicBezTo>
                  <a:pt x="100" y="225"/>
                  <a:pt x="83" y="174"/>
                  <a:pt x="83" y="174"/>
                </a:cubicBezTo>
                <a:cubicBezTo>
                  <a:pt x="104" y="40"/>
                  <a:pt x="80" y="69"/>
                  <a:pt x="177" y="39"/>
                </a:cubicBezTo>
                <a:cubicBezTo>
                  <a:pt x="262" y="44"/>
                  <a:pt x="315" y="31"/>
                  <a:pt x="380" y="73"/>
                </a:cubicBezTo>
                <a:cubicBezTo>
                  <a:pt x="391" y="107"/>
                  <a:pt x="410" y="120"/>
                  <a:pt x="439" y="140"/>
                </a:cubicBezTo>
                <a:cubicBezTo>
                  <a:pt x="470" y="137"/>
                  <a:pt x="502" y="141"/>
                  <a:pt x="532" y="132"/>
                </a:cubicBezTo>
                <a:cubicBezTo>
                  <a:pt x="553" y="126"/>
                  <a:pt x="564" y="100"/>
                  <a:pt x="583" y="89"/>
                </a:cubicBezTo>
                <a:cubicBezTo>
                  <a:pt x="630" y="63"/>
                  <a:pt x="683" y="43"/>
                  <a:pt x="727" y="13"/>
                </a:cubicBezTo>
                <a:cubicBezTo>
                  <a:pt x="752" y="16"/>
                  <a:pt x="791" y="0"/>
                  <a:pt x="803" y="22"/>
                </a:cubicBezTo>
                <a:cubicBezTo>
                  <a:pt x="832" y="75"/>
                  <a:pt x="778" y="168"/>
                  <a:pt x="829" y="200"/>
                </a:cubicBezTo>
                <a:cubicBezTo>
                  <a:pt x="898" y="243"/>
                  <a:pt x="992" y="194"/>
                  <a:pt x="1074" y="191"/>
                </a:cubicBezTo>
                <a:cubicBezTo>
                  <a:pt x="1108" y="183"/>
                  <a:pt x="1130" y="177"/>
                  <a:pt x="1159" y="157"/>
                </a:cubicBezTo>
                <a:cubicBezTo>
                  <a:pt x="1193" y="160"/>
                  <a:pt x="1242" y="137"/>
                  <a:pt x="1261" y="166"/>
                </a:cubicBezTo>
                <a:cubicBezTo>
                  <a:pt x="1290" y="211"/>
                  <a:pt x="1266" y="273"/>
                  <a:pt x="1269" y="327"/>
                </a:cubicBezTo>
                <a:cubicBezTo>
                  <a:pt x="1274" y="406"/>
                  <a:pt x="1279" y="455"/>
                  <a:pt x="1286" y="530"/>
                </a:cubicBezTo>
                <a:cubicBezTo>
                  <a:pt x="1283" y="555"/>
                  <a:pt x="1297" y="590"/>
                  <a:pt x="1278" y="606"/>
                </a:cubicBezTo>
                <a:cubicBezTo>
                  <a:pt x="1254" y="626"/>
                  <a:pt x="1195" y="585"/>
                  <a:pt x="1185" y="615"/>
                </a:cubicBezTo>
                <a:cubicBezTo>
                  <a:pt x="1159" y="692"/>
                  <a:pt x="1190" y="778"/>
                  <a:pt x="1193" y="860"/>
                </a:cubicBezTo>
                <a:cubicBezTo>
                  <a:pt x="1218" y="857"/>
                  <a:pt x="1244" y="857"/>
                  <a:pt x="1269" y="852"/>
                </a:cubicBezTo>
                <a:cubicBezTo>
                  <a:pt x="1287" y="849"/>
                  <a:pt x="1320" y="835"/>
                  <a:pt x="1320" y="835"/>
                </a:cubicBezTo>
                <a:cubicBezTo>
                  <a:pt x="1328" y="846"/>
                  <a:pt x="1345" y="855"/>
                  <a:pt x="1345" y="869"/>
                </a:cubicBezTo>
                <a:cubicBezTo>
                  <a:pt x="1345" y="993"/>
                  <a:pt x="1338" y="1118"/>
                  <a:pt x="1320" y="1241"/>
                </a:cubicBezTo>
                <a:cubicBezTo>
                  <a:pt x="1318" y="1254"/>
                  <a:pt x="1261" y="1293"/>
                  <a:pt x="1252" y="1301"/>
                </a:cubicBezTo>
                <a:cubicBezTo>
                  <a:pt x="1215" y="1333"/>
                  <a:pt x="1182" y="1357"/>
                  <a:pt x="1159" y="1402"/>
                </a:cubicBezTo>
                <a:cubicBezTo>
                  <a:pt x="1147" y="1495"/>
                  <a:pt x="1155" y="1589"/>
                  <a:pt x="1142" y="1682"/>
                </a:cubicBezTo>
                <a:cubicBezTo>
                  <a:pt x="1142" y="1685"/>
                  <a:pt x="1084" y="1719"/>
                  <a:pt x="1074" y="1724"/>
                </a:cubicBezTo>
                <a:cubicBezTo>
                  <a:pt x="1017" y="1752"/>
                  <a:pt x="950" y="1760"/>
                  <a:pt x="888" y="1775"/>
                </a:cubicBezTo>
                <a:cubicBezTo>
                  <a:pt x="741" y="1772"/>
                  <a:pt x="594" y="1778"/>
                  <a:pt x="448" y="1767"/>
                </a:cubicBezTo>
                <a:cubicBezTo>
                  <a:pt x="437" y="1766"/>
                  <a:pt x="400" y="1711"/>
                  <a:pt x="397" y="1707"/>
                </a:cubicBezTo>
                <a:cubicBezTo>
                  <a:pt x="381" y="1689"/>
                  <a:pt x="363" y="1674"/>
                  <a:pt x="346" y="1657"/>
                </a:cubicBezTo>
                <a:cubicBezTo>
                  <a:pt x="313" y="1625"/>
                  <a:pt x="306" y="1580"/>
                  <a:pt x="278" y="1546"/>
                </a:cubicBezTo>
                <a:cubicBezTo>
                  <a:pt x="262" y="1527"/>
                  <a:pt x="241" y="1526"/>
                  <a:pt x="219" y="1521"/>
                </a:cubicBezTo>
                <a:cubicBezTo>
                  <a:pt x="166" y="1442"/>
                  <a:pt x="197" y="1371"/>
                  <a:pt x="202" y="1267"/>
                </a:cubicBezTo>
                <a:cubicBezTo>
                  <a:pt x="199" y="1210"/>
                  <a:pt x="205" y="1152"/>
                  <a:pt x="193" y="1097"/>
                </a:cubicBezTo>
                <a:cubicBezTo>
                  <a:pt x="190" y="1084"/>
                  <a:pt x="171" y="1080"/>
                  <a:pt x="160" y="1072"/>
                </a:cubicBezTo>
                <a:cubicBezTo>
                  <a:pt x="126" y="1048"/>
                  <a:pt x="104" y="1008"/>
                  <a:pt x="66" y="996"/>
                </a:cubicBezTo>
                <a:cubicBezTo>
                  <a:pt x="18" y="922"/>
                  <a:pt x="0" y="844"/>
                  <a:pt x="58" y="759"/>
                </a:cubicBezTo>
                <a:cubicBezTo>
                  <a:pt x="69" y="724"/>
                  <a:pt x="88" y="688"/>
                  <a:pt x="109" y="657"/>
                </a:cubicBezTo>
                <a:cubicBezTo>
                  <a:pt x="125" y="606"/>
                  <a:pt x="126" y="615"/>
                  <a:pt x="109" y="530"/>
                </a:cubicBezTo>
                <a:cubicBezTo>
                  <a:pt x="107" y="520"/>
                  <a:pt x="92" y="515"/>
                  <a:pt x="92" y="505"/>
                </a:cubicBezTo>
                <a:cubicBezTo>
                  <a:pt x="87" y="381"/>
                  <a:pt x="92" y="256"/>
                  <a:pt x="92" y="1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conducted this experiment by finding the mass of the displaced water from the sunken and floating bo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5257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razy shaped bo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181480"/>
            <a:ext cx="259056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362320" y="3962520"/>
            <a:ext cx="14475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3320" y="357120"/>
            <a:ext cx="7677360" cy="614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8660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0e8c"/>
                </a:solidFill>
                <a:latin typeface="Arial"/>
                <a:ea typeface="Arial"/>
              </a:rPr>
              <a:t>Blue- Boat Flo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raph abo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raphed our information from our table.  The average amount of water displaced from the sunken boat was 6.23g.  The average for the floating boat was 10.74g of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ta’s boat sank because of the buoyancy, the shape, the mass, the density, and the volume of the boat caused Anita’s boat to si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3:22:53Z</dcterms:created>
  <dc:creator>claguna</dc:creator>
  <dc:description/>
  <dc:language>en-US</dc:language>
  <cp:lastModifiedBy>claguna</cp:lastModifiedBy>
  <dcterms:modified xsi:type="dcterms:W3CDTF">2007-10-26T12:38:39Z</dcterms:modified>
  <cp:revision>7</cp:revision>
  <dc:subject/>
  <dc:title>Slide 1</dc:title>
</cp:coreProperties>
</file>